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122BB-1FA9-470A-BBDF-DB1C29C1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CBA6B-F7DF-4941-9CF6-8C0B62C3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4FDA0-6D54-4E1E-B862-0692941B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D5A96-CDC5-4FB6-9EFC-307E1674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9AB5-067A-4D07-A73A-3F3763790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257E-E5AD-48B5-AC00-890C6675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8143-7C54-4AB6-B487-FE87864E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B3DB-31B9-43B1-A3BD-B12437EF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31AB-CA60-45C5-B767-EED77358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9ADB-9165-4330-A2A5-5B0FA588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431C-C955-495F-8F93-CCC40768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C43CB-2B59-41A6-B458-87C752AB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144C-16C9-4616-A2AA-4CB20361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01E1-5072-4B90-9B5B-72C6D2BE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B469-5829-44DB-96DD-E1BCA7C9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5766-A70E-42A9-BA6D-0674D0E2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2820-AB65-4E3B-9CC2-D0CC112B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19BB4-9CBB-456F-8DEF-296CEBB5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F52C5-3675-435F-9267-9CB2202E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65A71-0760-4B86-B6BC-B102E493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34906-CCE7-4BA7-B7A4-44027639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3F2D7-6FFC-4334-8B0F-18EF0E2C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D3A89-5783-495F-862F-B0C325F1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9BC75-FCFC-4820-9C81-8638F52F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6301-E6D1-49BB-9221-5C7390E955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90E5-D538-4104-B9A3-57AC5F1B19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Permuta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0280" y="1650600"/>
            <a:ext cx="76471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nown word attack can match the word with the ciphertext to discover the perm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098720" y="2367000"/>
            <a:ext cx="1087200" cy="4491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11360" y="2690640"/>
            <a:ext cx="4805640" cy="4083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008080" y="4033800"/>
            <a:ext cx="1155960" cy="592200"/>
          </a:xfrm>
          <a:prstGeom prst="wedgeRoundRectCallout">
            <a:avLst>
              <a:gd name="adj1" fmla="val -44504"/>
              <a:gd name="adj2" fmla="val 7010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85040" y="2819520"/>
            <a:ext cx="1155600" cy="591840"/>
          </a:xfrm>
          <a:prstGeom prst="wedgeRoundRectCallout">
            <a:avLst>
              <a:gd name="adj1" fmla="val -44504"/>
              <a:gd name="adj2" fmla="val 7010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 Possi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A56CB-9F24-4257-B5E9-BA07774C01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4T01:35:16Z</dcterms:modified>
  <cp:revision>68</cp:revision>
  <dc:subject/>
  <dc:title>CAP Cryptographic Analysis Program</dc:title>
</cp:coreProperties>
</file>